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02D-37F3-4554-BBE3-A8670F5B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7AA-078D-423B-896E-E1265EC8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F68F8-A14C-4A11-82DD-37D8A121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F0711-F488-405F-85B4-B64F5FA7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D8431-2F02-4872-8F0E-D04320D1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F2E68-686E-4914-92E9-2E5BBBBC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C90A1-9C27-407D-8AD7-4B0CD836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6252F-086D-4598-B81E-A6631950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E514B-3E21-4F41-823F-06EA9271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29854-517E-4AFB-86ED-07279B1A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AF13F-0523-4B65-92D3-83F5A728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DFC-1FB6-4E52-B8F1-71B1E303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96F-8BE2-4EDB-BB21-926771EF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956D-53B1-4EE1-95B8-ADA4A8A0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955E-BBF6-4065-9D8F-3B33C315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01BA-9E27-4048-AE2E-3E619424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D732-4936-4AAB-9760-CF7BC454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75C0-4089-400A-95D0-8C9B42CA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C394-5E46-4AC3-B23F-E70E7060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38EA-9D19-473C-948C-7092815E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51E-5346-4DF2-8586-3E365253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4898-FA23-4EC4-A5F5-3E95E704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C30A-5E30-40F6-AEA0-ECF30BF5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D164-DBB1-43A7-9A4F-A6B9E584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CEA4-BD9B-42FC-BE4F-8A1C0E3D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96D0-FFE2-4F46-B220-CD3E8F14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07216-F188-4D44-A921-ABD70999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44AA2-E154-450B-B2E0-A96C49DF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3DF72-8D1F-41D1-ACAB-C58FFBF8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340F7-C2BC-4B82-B949-E2B25FF8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D4AB8-0723-4EF6-A938-A8837146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D1E-D861-45F7-8B2A-73B17434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84A4-0247-420E-88E4-35817E60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222BE-FABD-41BF-B457-26052D19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CD487-3434-450B-A482-015A3DA0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5C98E-62C2-409B-8B57-9F599339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78879-64EF-40D6-9360-012CEA8B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2D28C-020F-4D5B-A0E4-5927CF56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DFE86-EBB7-43D2-A8A2-E1F06C26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08F06-6578-4287-946A-82F36710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F19DF-A4D3-4580-88FB-875F2790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3E82C-9423-44B0-88A4-8EC388CE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6C3-1998-47CF-BF5D-967DDDE0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52BC1-247B-4125-AA96-47C9459E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8374D-B8FD-4F59-AE80-E98C3A79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FCDC6-A909-43F4-8EEE-EFF618B2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4EDC4-3CA2-43A2-AB70-FA998D46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07FAC-F4E4-45A7-8BDA-6EDFA19D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A119B-0973-4D97-AA70-90F9C6D7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F46C6-0176-46C5-BA5C-061F0519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F37DA-8B93-42EF-9BD6-70144845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28BE1-FA27-4DF8-BA97-DA1D608E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4D6BE-CDB8-453C-BB8F-3190C066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92B-FA54-4C14-9694-735AEDD7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9634A-F3AD-41C3-9F06-99D7810E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70E12-A7E0-4DB2-A9D9-E2FA77C6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6A72C-5318-4F33-98E9-056CAD36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02127-2557-4235-874B-21391650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24413-A899-4D0E-9D01-BBB3394D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A51CC-7BB3-43A9-AD8E-76ED93C0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421F1-4A52-4F07-9041-955701A0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5A56E-811E-4D60-A91E-4537EED0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E0E1C-7361-456A-BF5B-0A976B9D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E059D-7633-4159-AE05-DE23AF04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835-7785-4FE1-A687-0A4AC773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241CF-383B-4241-9737-B64E6AA8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A2FE5-27F3-4615-97BA-515AE0B5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D4AED-588E-4F00-B5E3-601F2B1F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3B7C7-4145-43ED-8E85-B0D683DB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4BA7E-C044-42C3-9A3D-2CC23BFB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8ED06-C92E-48E7-8A77-28562062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EAB66-1E58-4D83-842C-A1CA4FF6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0168A-1751-490B-B3ED-9148EA2B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A801C-8A16-4757-80B3-7F00B920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E21D5-94EE-4DE7-891C-A5FF55D8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637-EE43-4A29-9363-DAF1F645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C39E6-75E6-4DDC-934F-CF21F5C2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3D9FB-60E7-4FF5-AFE1-26C087D0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324C1-35DB-4F9A-B844-28F98D26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CAA96-9BF6-4065-BB5C-0823FD95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1B1B8-84AD-45E1-BC21-51E98073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6C81A-1843-4195-AD51-8D923D5B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40096-6691-4C9B-BB45-E41B2F66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BF1DC-C2FF-41EB-922F-28F69C33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D8753-2962-4C18-8081-778D0ACB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F6AB8-26C1-4F28-B289-EAEB84E5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585-8125-4942-A724-932976B5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C4C53-2FFA-4C1D-8491-7148C2C8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036A6-4B58-4724-A69A-4B82644B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84057-2AFF-4B46-9DE7-8FCBE69D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B8C38-964D-48D1-B81B-BBE8A729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A40F5-CF3F-47BE-993E-8603A480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AB326-A638-4F53-A1B9-9F4531A4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2E106-5EDB-4C13-A2B8-2D5BA43C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6E6E9-D8A3-45F1-A981-AADD8379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CA0CF-8FDB-48B7-9791-F7C43291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4D061-827F-45EC-889C-F9D0629B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282-9C64-4EFC-9850-21710B64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5B22A-7095-4946-B48C-747F1894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31919-955F-456E-BE66-BDB1FA79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F2017-7F24-458C-9B6F-D25C7A0B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4495B-79A5-477B-A659-B15E98A3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3DA70-878C-4AAF-8533-A1C30C2A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687B6-4EA5-4FEB-9C62-1ECB1DEE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F3A1D-E1D4-49FF-8377-F463CCB8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A9D85-A85A-452C-984D-C99D33D6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EEC58-B240-4FCF-B723-EDE4B4E2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AC7D8-A9E2-4FA6-A188-ED4906BA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3912-C4EC-47C5-A2BB-F1266E34B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8037-D27D-4E56-B7CC-CC6806569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975B-C74C-41A4-B419-B7711EF86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3360-6E4D-42C0-B710-2FB1D3D83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CD13-A54E-4966-8E88-7F9845913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5602-9A4B-4A69-9843-AB082D053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AA89-3957-41F2-8A12-B3C2B7771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8CAC-190F-495A-9959-43AC9BE2E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9F64-A2FF-44E6-9295-4E91F5A6D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3: Absolute Valu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5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an absolute value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n absolute value equations in one variable graph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Absolute valu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value is the distance between the value and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value is always po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Graphing absolute valu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|x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590920" y="2057400"/>
          <a:ext cx="5257800" cy="40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2057400"/>
                    <a:ext cx="525780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Shifts in absolute valu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|x-a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s the shap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its to 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r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a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s the shape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its to the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is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733920" y="1219320"/>
            <a:ext cx="3657600" cy="28191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4952880" y="3429000"/>
            <a:ext cx="34610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Solving an absolute value equation graphically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x-3|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|x-3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x)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895480" y="1676520"/>
            <a:ext cx="4707000" cy="47242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 flipV="1">
            <a:off x="5867280" y="2590560"/>
            <a:ext cx="1447920" cy="1447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4495680" y="2514240"/>
            <a:ext cx="1371600" cy="1523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48120" y="3200400"/>
            <a:ext cx="4267080" cy="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2209680"/>
            <a:ext cx="0" cy="3886200"/>
          </a:xfrm>
          <a:prstGeom prst="line">
            <a:avLst/>
          </a:prstGeom>
          <a:ln w="507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705720" y="1828800"/>
            <a:ext cx="0" cy="4267080"/>
          </a:xfrm>
          <a:prstGeom prst="line">
            <a:avLst/>
          </a:prstGeom>
          <a:ln w="507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ther shifts in absolute valu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|x| +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ph shifts up if a is po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ph shifts down if a is neg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257800" y="1233360"/>
            <a:ext cx="32004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rying a few…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|x-3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|x|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-|x+3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-|x|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42195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hapter Nine Timelin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 11/1 : 9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 11/2 :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11/5 : 9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 11/6 : 9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dnesday 11/7 : review 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 11/8 : review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 11/13: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20:53:35Z</dcterms:created>
  <dc:creator>nuhs</dc:creator>
  <dc:description/>
  <dc:language>en-US</dc:language>
  <cp:lastModifiedBy>nuhs</cp:lastModifiedBy>
  <dcterms:modified xsi:type="dcterms:W3CDTF">2007-11-05T20:51:26Z</dcterms:modified>
  <cp:revision>12</cp:revision>
  <dc:subject/>
  <dc:title>Slide 1</dc:title>
</cp:coreProperties>
</file>